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7DF-55D1-484E-8025-9A02D6C3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E30-2DA3-4AE3-BD8C-7F1504F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5FD-B053-4714-AB37-C16CDADE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38C-53D3-4B80-B1AA-69BE70CE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6C6-8547-4FD1-8002-C7E983E1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467-11D7-40C2-84E0-F6482CD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DEA-49BE-43BF-A018-3BD521F3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F52-73BF-4302-8741-44303DC7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540-DCAA-49FC-8031-BB6E5D7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5CC-6261-4EB9-B5DE-CF8D25C6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2F2-5B17-47C4-82D4-CC4CC0D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ECF-5E97-4462-974C-B8967710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71F4-DC63-43A4-ABE3-DF10A874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sk questions in order to comprehend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0880"/>
            <a:ext cx="2590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down two questions you have about the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ask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from the begin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hird paragraph, I ask, “Who is Li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question on a post-it and stick it to the chart paper graphic organiz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o page 24.  Read the entire page and write down the TWO questions I wrote down in the packet on post-its.  Stick it on the graphic organiz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, try to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ing Graphic Organizer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Lis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nnemarie’s 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aughter of Mr. and Mrs. Johans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the photo album pr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the family has three daugh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ould/would have happened if the soldiers found the Star of Davi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Breadwi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down FIVE ques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margins (ANNOTATE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 the questions in the packet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TURN YOUR PACKET INTO THE BIN WHEN YOU FINISH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60" y="0"/>
            <a:ext cx="78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Independent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independent book, try to ask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look for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56:17Z</dcterms:created>
  <dc:creator>Administrator</dc:creator>
  <dc:description/>
  <dc:language>en-US</dc:language>
  <cp:lastModifiedBy>Administrator</cp:lastModifiedBy>
  <dcterms:modified xsi:type="dcterms:W3CDTF">2010-09-14T21:43:28Z</dcterms:modified>
  <cp:revision>7</cp:revision>
  <dc:subject/>
  <dc:title>Do Now 9-20 I can ask questions in order to comprehend text.</dc:title>
</cp:coreProperties>
</file>